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C8E3-21C5-43FA-B32B-D165854F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3C31-21AF-4FC8-ABEA-07D7800CA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4EE-414D-4E43-B84E-03D76954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81C3-46B2-4CA9-9C11-A0E48FFE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CECF-2A3B-4308-AE2B-E35E5E8D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FAF8-D7A2-44DD-9278-359E8F14B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186-E82F-4AED-8DC1-2A19F9A2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CB3-CA83-49EF-99D5-B0BB66D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D16-085A-442F-A222-C18485CF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E31-3ED0-4C57-909D-8BE5C4E1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06F-49AE-4EBF-A9C2-C5731C43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BA1-36DE-4D3D-80E5-4C82F30C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282-7BEB-4B5A-8953-A9ABCDCA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5A8-C314-4A96-B59F-0309AC48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1F4-B8C3-4690-8F38-A997B62C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17F-0901-4E9F-A8E3-51BAEBE8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56A-6536-4F09-9165-DED9FA2D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F0C-03FA-4475-AA8A-B2AAE7B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BDD8-45B7-490E-BBA5-1A9B04F75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er Weihnachtsmark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5160" y="2209320"/>
            <a:ext cx="3733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Deutschland gibt es während der Adventszeit überall Weihnachtsmä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Weihnac2"/>
          <p:cNvPicPr/>
          <p:nvPr/>
        </p:nvPicPr>
        <p:blipFill>
          <a:blip r:embed="rId1">
            <a:lum contrast="30000"/>
          </a:blip>
          <a:srcRect l="2992" t="0" r="2008" b="0"/>
          <a:stretch/>
        </p:blipFill>
        <p:spPr>
          <a:xfrm>
            <a:off x="630360" y="1066680"/>
            <a:ext cx="3786120" cy="556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ine kleine Budenstad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9-oberstrasse-marktstrasse-2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6320" y="1752480"/>
            <a:ext cx="4190760" cy="3540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3" name="Picture 5" descr="35-marktplatz-gluehweinhuette-20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343400" y="1752480"/>
            <a:ext cx="4724280" cy="3567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inkauf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n kann vieles kau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yram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hwibbö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sskn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äuchermänn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ihnachtsgebä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lühw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iße Mar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erzen"/>
          <p:cNvPicPr/>
          <p:nvPr/>
        </p:nvPicPr>
        <p:blipFill>
          <a:blip r:embed="rId1">
            <a:lum contrast="12000"/>
          </a:blip>
          <a:srcRect l="10458" t="0" r="2844" b="0"/>
          <a:stretch/>
        </p:blipFill>
        <p:spPr>
          <a:xfrm>
            <a:off x="144360" y="1708200"/>
            <a:ext cx="4361040" cy="408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e Kri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57913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er Weihnachtsmarkt hat eine Kri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1066680" y="1015920"/>
            <a:ext cx="6934320" cy="4622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er Christkindlmark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r berühmteste Weihnachtsmarkt ist der Christkindlmarkt in Nür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1-12-01-christkindlesmarkt-15-450_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914400"/>
            <a:ext cx="4349520" cy="579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6:32:05Z</dcterms:created>
  <dc:creator>ImageUser</dc:creator>
  <dc:description/>
  <dc:language>en-US</dc:language>
  <cp:lastModifiedBy>Stefan</cp:lastModifiedBy>
  <dcterms:modified xsi:type="dcterms:W3CDTF">2010-11-01T23:00:03Z</dcterms:modified>
  <cp:revision>9</cp:revision>
  <dc:subject/>
  <dc:title>Der Weihnachtsmarkt</dc:title>
</cp:coreProperties>
</file>